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357-7A92-454C-ACD6-05FB2E22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1A6-CD70-4B94-AFE2-E91F28D9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441-1756-4F00-B716-8CF99851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377-690E-4B54-B11A-E45B918F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345-4E4B-46F9-8933-7158C3E4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D5D-8D37-4715-B65D-9FCF426C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2F8-A8A0-45F6-97E2-B51B0BA0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A71-F6FC-4D58-B0A1-7766F4DD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733-0135-4697-A3C8-0C58A60C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E2F-459B-4D72-A6A8-45AA4E9E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303-0CA8-41D7-88DB-21935463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67E-0C7D-4D75-B31E-6F171CF4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D922-D6FE-4A93-80EC-913A57AA6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1:00:25Z</dcterms:created>
  <dc:creator>mcarrington</dc:creator>
  <dc:description/>
  <dc:language>en-US</dc:language>
  <cp:lastModifiedBy>mcarrington</cp:lastModifiedBy>
  <dcterms:modified xsi:type="dcterms:W3CDTF">2007-07-24T11:24:11Z</dcterms:modified>
  <cp:revision>4</cp:revision>
  <dc:subject/>
  <dc:title>Slide 1</dc:title>
</cp:coreProperties>
</file>