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1E3-7CCE-4701-A2E9-E865616A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06D-9728-4A9F-9A8D-7841C11A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382-1CC1-40AA-8F31-463631F9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BD6-24AD-45C4-9741-6CD504C0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0423-C8E3-4550-B448-17826131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9CB7-E49B-445E-98D7-6E235857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33B-35E3-4CCE-9954-A246EFB8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F02-A637-47ED-9CC7-DF114689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8CB-F05F-4AFA-A505-AC88AC1C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CF4-DFB4-4568-8EF3-28F6C5C7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E5C-D421-4B39-915B-D5F852AB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EBF-E28C-4CFD-B33C-B7C9C24F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E1AE-8D46-4963-8385-103E39467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80264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0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80264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1:00:25Z</dcterms:created>
  <dc:creator>mcarrington</dc:creator>
  <dc:description/>
  <dc:language>en-US</dc:language>
  <cp:lastModifiedBy>mcarrington</cp:lastModifiedBy>
  <dcterms:modified xsi:type="dcterms:W3CDTF">2007-07-24T11:24:11Z</dcterms:modified>
  <cp:revision>4</cp:revision>
  <dc:subject/>
  <dc:title>Slide 1</dc:title>
</cp:coreProperties>
</file>