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1 a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38862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2 som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1 PPT version 2003 (this is SP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2 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2a No page numbers  (master she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2b Sometimes bullets do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FUN STUFF,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ing is a wast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3 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2057400"/>
            <a:ext cx="48006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 simple text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 will save it as a Web Page. Zip the folder.  Then go to demo.moodle.org and create a lesson, use the import PPT menu item.  Yep it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, I will zip the PPT and the zip file.  That should be under 100k and that can be attached to a post in Lesson Forum for someone to unpack and see what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ALL FOL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3:09:42Z</dcterms:created>
  <dc:creator>Chris Collman</dc:creator>
  <dc:description/>
  <dc:language>en-US</dc:language>
  <cp:lastModifiedBy>Chris Collman</cp:lastModifiedBy>
  <dcterms:modified xsi:type="dcterms:W3CDTF">2008-05-14T13:42:35Z</dcterms:modified>
  <cp:revision>6</cp:revision>
  <dc:subject/>
  <dc:title>Page 1 a picture</dc:title>
</cp:coreProperties>
</file>